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DABE6-64A9-42CB-B7A8-7301F622C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A10B3-AC5A-4560-B467-DB4D80750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257D9-F069-40AA-B05F-F0D42DEB9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567E7-DAB4-4141-A054-B5D63B171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94306-81F0-47F1-9879-620A89FE9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6DAB5-C7D8-4EF5-9DD3-410C010A8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98A9D-21FC-441D-8C63-42757DC06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F1ADE-5652-42B9-A66B-FE6E97B0D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4FA22-B29A-4EC7-9F24-192822BFC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1E7D2-FAB9-48B1-82A0-C711B2803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4D0A8-BCCC-4025-995C-D16DDEED2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2D163-40A7-4E33-9602-C1AFE50EE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E25F3-C92E-45AC-A08E-8B636B6E8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BE4DE-60A1-477D-B667-DEAA9FE28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6C62A-E212-4E60-B5AC-C1E8A75F2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60B32-95A5-4732-A34F-1C69513DE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8936F-CE6D-4125-8A2D-581B44A3B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1416A-831D-4130-BC83-7E70548E5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D31F3-E1F4-46A8-B379-C987B5D75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87D94-3410-4033-B13A-E76290C19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B36E8-0C7A-4A6A-B0F0-278C26870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1B692-6604-4558-A5E1-7275DD3AF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7303A-8A4E-4D4F-BD04-152DB6775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277F8-132F-4663-832A-0A0F07777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4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5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6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7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8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9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0" name="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83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21" name=""/>
          <p:cNvGrpSpPr/>
          <p:nvPr/>
        </p:nvGrpSpPr>
        <p:grpSpPr>
          <a:xfrm>
            <a:off x="0" y="0"/>
            <a:ext cx="9144000" cy="380880"/>
            <a:chOff x="0" y="0"/>
            <a:chExt cx="9144000" cy="380880"/>
          </a:xfrm>
        </p:grpSpPr>
        <p:sp>
          <p:nvSpPr>
            <p:cNvPr id="22" name=""/>
            <p:cNvSpPr/>
            <p:nvPr/>
          </p:nvSpPr>
          <p:spPr>
            <a:xfrm>
              <a:off x="0" y="0"/>
              <a:ext cx="9144000" cy="380880"/>
            </a:xfrm>
            <a:prstGeom prst="rect">
              <a:avLst/>
            </a:prstGeom>
            <a:solidFill>
              <a:srgbClr val="f6b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pic>
          <p:nvPicPr>
            <p:cNvPr id="23" name="" descr=""/>
            <p:cNvPicPr/>
            <p:nvPr/>
          </p:nvPicPr>
          <p:blipFill>
            <a:blip r:embed="rId2"/>
            <a:stretch/>
          </p:blipFill>
          <p:spPr>
            <a:xfrm>
              <a:off x="762120" y="76320"/>
              <a:ext cx="7696080" cy="255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11CD9-EAD0-4F15-8D1B-C5260CAF404C}" type="slidenum"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752480"/>
            <a:ext cx="910584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83" name=""/>
            <p:cNvGrpSpPr/>
            <p:nvPr/>
          </p:nvGrpSpPr>
          <p:grpSpPr>
            <a:xfrm>
              <a:off x="0" y="0"/>
              <a:ext cx="9144000" cy="866880"/>
              <a:chOff x="0" y="0"/>
              <a:chExt cx="9144000" cy="866880"/>
            </a:xfrm>
          </p:grpSpPr>
          <p:sp>
            <p:nvSpPr>
              <p:cNvPr id="84" name=""/>
              <p:cNvSpPr/>
              <p:nvPr/>
            </p:nvSpPr>
            <p:spPr>
              <a:xfrm>
                <a:off x="0" y="679320"/>
                <a:ext cx="9144000" cy="18756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492120"/>
                <a:ext cx="9144000" cy="18720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152280"/>
                <a:ext cx="9144000" cy="18756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30492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 flipV="1">
              <a:off x="0" y="0"/>
              <a:ext cx="611280" cy="6858000"/>
            </a:xfrm>
            <a:prstGeom prst="rect">
              <a:avLst/>
            </a:prstGeom>
            <a:solidFill>
              <a:srgbClr val="83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914400" y="3276720"/>
            <a:ext cx="7696080" cy="2556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4"/>
          </p:nvPr>
        </p:nvSpPr>
        <p:spPr>
          <a:xfrm>
            <a:off x="651960" y="6238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ftr" idx="5"/>
          </p:nvPr>
        </p:nvSpPr>
        <p:spPr>
          <a:xfrm>
            <a:off x="32349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2A829-EEBA-43C6-A452-1B4C39B22414}" type="slidenum"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55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2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f6bf88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51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cafe.daum.net/severancePT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18920" y="2204640"/>
            <a:ext cx="62643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200" spc="-1" strike="noStrike">
                <a:solidFill>
                  <a:srgbClr val="000000"/>
                </a:solidFill>
                <a:latin typeface="굴림체"/>
                <a:ea typeface="굴림체"/>
              </a:rPr>
              <a:t>신촌 세브란스병원</a:t>
            </a:r>
            <a:endParaRPr b="0" i="1" lang="en-US" sz="5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2050920" y="4005000"/>
            <a:ext cx="6400800" cy="19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발표자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종숙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생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신수정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종숙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환서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기간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12.29~2.21 (1,2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차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주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611280" y="836640"/>
            <a:ext cx="8532720" cy="104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병원위치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292929"/>
                </a:solidFill>
                <a:latin typeface="굴림"/>
              </a:rPr>
              <a:t>  </a:t>
            </a: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292929"/>
                </a:solidFill>
                <a:latin typeface="굴림"/>
              </a:rPr>
              <a:t>   </a:t>
            </a: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50920" y="1197000"/>
            <a:ext cx="4608360" cy="48960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932360" y="1197000"/>
            <a:ext cx="395928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호선 신촌역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출구 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걸어서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5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분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 출구 바로 앞에서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연세대학교 정문까지 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버스 환승가능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병원위치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 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50920" y="1125360"/>
            <a:ext cx="4105080" cy="504036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4427640" y="1125360"/>
            <a:ext cx="446544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이 본관 새병원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본관에 물리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7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이 재활병원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재활병원 내 물리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통증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총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개 치료실이 운영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7"/>
          <a:stretch/>
        </p:blipFill>
        <p:spPr>
          <a:xfrm>
            <a:off x="4572000" y="3573360"/>
            <a:ext cx="4176720" cy="257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복장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흰색 폴로 티셔츠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카라있는 티셔츠로서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여름엔 반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추우면 긴팔 선택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바지는 면바지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청바지 절대 안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신발은 오랜 기간 서있어도 편한 캐쥬얼 슈즈 혹은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 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흰색 운동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사실 색은 별 상관이 없음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필히 수영복과 개인 수건 지참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수치료 실습시 필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가운 필요 없음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68000" y="1790280"/>
            <a:ext cx="8218440" cy="15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스케쥴표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생이 직접 짜서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부 출력 해서 가야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총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파트로 실습 나오는 학생들이 같은 층에 배 치 되지  않아야 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39640" y="3716280"/>
            <a:ext cx="8064720" cy="216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실습시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전 근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:30-12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점심 시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2:30-1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후 근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30-5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출근 시간은 공식적으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:3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까지이나 각 층별 스케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PT rounding, conference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에 따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에 시작할 때도 있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첫날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 까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물리치료실로와서 실습 당담치료사를 찾아가면 된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그외준비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는 첫날 반명함판 사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매 필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찰 제작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브란스는 자체 명찰을 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주일 한번 렉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점심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학생식당이나 직원식당을 이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학생식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500~300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직원식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찰제시시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 : 250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무도 안내해 주지 않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잘 찾아 가야함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brain injury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SCI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 관찰해서 매일 카페에 관찰 내용 올리기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 1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항목 올리기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본관 새병원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 &amp; web repor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치료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소아치료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제 없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 u="sng">
                <a:solidFill>
                  <a:srgbClr val="f6bf88"/>
                </a:solidFill>
                <a:uFillTx/>
                <a:latin typeface="굴림"/>
                <a:hlinkClick r:id="rId1"/>
              </a:rPr>
              <a:t>http://cafe.daum.net/severanceP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 카페 주소만 알면 됨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;;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5T06:28:39Z</dcterms:created>
  <dc:creator>최원혁</dc:creator>
  <dc:description/>
  <dc:language>en-US</dc:language>
  <cp:lastModifiedBy>Staff</cp:lastModifiedBy>
  <dcterms:modified xsi:type="dcterms:W3CDTF">2009-04-11T08:08:15Z</dcterms:modified>
  <cp:revision>9</cp:revision>
  <dc:subject/>
  <dc:title>병원 실습 발표 - 대구 우리들 병원 - 대구 </dc:title>
</cp:coreProperties>
</file>