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212C-D6DC-49B6-A3AB-D482C81B5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C40D-113B-4CBE-B607-AB8C89409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06DA-CB94-4F4F-82D3-F7F151270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5043-DE2F-4551-9E97-C21FB621B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7ED11-A1A4-4DEF-8FA4-A35F2A82C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FE1D6-220D-4C11-AD95-659983555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A76E4-EDF1-415A-BA06-6A0197081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B37A5-A538-45B5-9D45-F98F8E0BE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12B90-A283-46B5-BC8A-FCC3078C0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909A9-174F-49B1-8607-537C23D9E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1F093-3A38-44F0-959B-E29E2BDE4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EE5E-9E91-40A9-BE5E-546C8DFCF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0FD0B-D88B-499F-BC1F-A507CBA80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CE3CC-E52B-4C6D-9C54-B1789D527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F2999-FDE9-4D9E-B675-EFE0C0044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6C8A7-AFF6-43E7-91D3-CA4D08293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1AA0D-B12C-4E35-94E4-3D31271C6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4A05-3380-4F00-9D24-923DD7319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B7FF-2B6C-497A-8B5F-C6CA78D77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DA31-9A42-4669-B9DB-7A562B816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EA88-80C2-4187-AE1E-E74925EC6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1B4E-4E9D-42E8-A992-4BF1CDE45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1342-EDA4-468B-9999-7AA8212FD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F1E4-E12F-4699-BAEB-B578159AE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65184-C4B7-4A3A-8B0F-9AD7F7BA1FF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95552-8E88-446C-B61F-AB44811E5DC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0066"/>
                </a:solidFill>
                <a:latin typeface="굴림"/>
              </a:rPr>
              <a:t>동산 의료원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굴림"/>
              </a:rPr>
              <a:t>06’ </a:t>
            </a:r>
            <a:r>
              <a:rPr b="1" lang="zh-CN" sz="3200" spc="-1" strike="noStrike">
                <a:solidFill>
                  <a:srgbClr val="000000"/>
                </a:solidFill>
                <a:latin typeface="굴림"/>
              </a:rPr>
              <a:t>김예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09.2.2~2009.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위치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구광역시 중구 동산동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194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물리치료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- 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호선 서문시장역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번 출구 서문시장방향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보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분 거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826920" y="2997360"/>
            <a:ext cx="360360" cy="215640"/>
          </a:xfrm>
          <a:prstGeom prst="rightArrow">
            <a:avLst>
              <a:gd name="adj1" fmla="val 50000"/>
              <a:gd name="adj2" fmla="val 4177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물리치료실 환경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시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이 오래됨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치료사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평균연령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30~40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4:4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정형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신경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소아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로 구성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복장 자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흰 셔츠나 흰 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머리는 단정히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출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늦어도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까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사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~ 1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권 한 장에 천원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퇴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4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에 도서관 보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토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일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공휴일 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A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B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 나누어 오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오후로 도서관에서 개인시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공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과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가짐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질문 거의 없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그냥 치료 하는 것 보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뒷정리하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키는 일 하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주일마다 환자 정해서 차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작성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국내논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요약 발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치료사의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lecture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금요일 아침에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Conference(8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분까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330066"/>
                </a:solidFill>
                <a:latin typeface="굴림"/>
              </a:rPr>
              <a:t>감사합니다</a:t>
            </a:r>
            <a:r>
              <a:rPr b="0" lang="en-US" sz="7200" spc="-1" strike="noStrike">
                <a:solidFill>
                  <a:srgbClr val="330066"/>
                </a:solidFill>
                <a:latin typeface="굴림"/>
              </a:rPr>
              <a:t>.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0:13:27Z</dcterms:created>
  <dc:creator>g]</dc:creator>
  <dc:description/>
  <dc:language>en-US</dc:language>
  <cp:lastModifiedBy>경상대 컴퓨터실 프린터</cp:lastModifiedBy>
  <dcterms:modified xsi:type="dcterms:W3CDTF">2009-04-09T03:28:07Z</dcterms:modified>
  <cp:revision>19</cp:revision>
  <dc:subject/>
  <dc:title>Welcome to 꿈동산</dc:title>
</cp:coreProperties>
</file>