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1C3BD-FDEB-451E-A5B8-05D0C1E3B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08209-2653-4C52-AB98-F29BC9706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20FF5-5C32-4FF6-9143-87D73ABA0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2F38B-3633-4EDE-ADF6-7CEEBA1CC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16F74-BA5F-45E0-9C22-FA120E7DA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AFD2F-7801-4FC1-B33E-C4624F798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EB5B4-FDEC-4A3D-A77D-BCC3FBEE4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0E054-5DAD-401C-BC91-88E1EB000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5DFE5-B7FC-47EC-9909-BAE1A3E3B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3A1E0-AAD5-4894-8EC4-7898AEFD3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A2440-4D7C-49A3-A8E9-F5E93A2FD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8E9ED-3024-403F-B55D-A962F21C2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B2003-A771-4734-B6EA-251DB5115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DF071-CA3B-4F19-9D12-048C67328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7D021-72E4-4F5D-A6CE-E5F95AFFB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611E5-84CF-4EE5-B7AA-9813B5C9D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B84E9-3B81-4B8E-8F77-B801529E1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38DFD-16BA-4DDC-9C08-D134C6830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C3742-9536-4464-BA80-194E5A5DA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671AB-9AB8-4D26-BD6D-CEDF6D8F3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A4074-6D0A-4AC3-ACDA-7EA79E5E0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44519-1950-4452-A92D-A6F2A8A79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E0B98-BF92-4D51-9B14-200A114EC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6B238-7636-42A7-AA1D-6B836FEC2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A7FEE-B389-492D-A2C3-4746736ACC72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615EC-5804-40FA-A059-217EA8FFA1B4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2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직의 성격과 </a:t>
            </a:r>
            <a:br>
              <a:rPr sz="5400"/>
            </a:b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          교사의 역할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교에서의 비형식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형식적인 구조에서 허용되지 않는 방식으로 자신을 표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형식적 구조를 통해 형식적 임무수행이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형식적 구조를 통해 공식적인 조직의 목적이나 절차가 수정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의 소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취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신 등의 비형식적 구조가 형식적 구조에 영향을 미침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부수적인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르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촉진자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는 촉진자가 되어야 한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급에서의 교사의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형식화된 지식 전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식적인 교사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회화 중재 역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내면화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을 위한 올바른 평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아실현과 동기부여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역할극이 마감되는 것을 인지하는 교사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자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품과 전문성 겸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이상적인 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언적 접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천적 접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한국교육개발원의 연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나오는 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대정신에 따라 교육내용과 방법이 달라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자질도 달라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그러나 봉사와 사명감은 존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성에 기초한 학생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중심의 교직의 실행력은 곧 바람직한 교사의 자질로 재현될 것이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람이 그리운 사회에서 사람만이 희망이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이란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?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와 교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의사와 의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죄인과 인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특징과 중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을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의 정신생활을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성숙자를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봉사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가와 민족에 영향을 미치는 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진보에 중요한 역할을 담당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7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향상을 도모하기 유리한 직업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을 보는 관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노동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공 봉사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전문성과 자율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전문성과 자율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율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본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에서의 직업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에서의 비형식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부수적인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급에서의 교사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기본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지식과 기술을 전달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회화 과정을 조력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평가의 주체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별평가와 성취평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교에서의 직업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피고용인의 역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경영에서의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장과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부모와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가의 역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다면적인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족관계의 역할을 모두 수행하는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관찰력이 분명하고 정확한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7T01:34:59Z</dcterms:created>
  <dc:creator>XPuser</dc:creator>
  <dc:description/>
  <dc:language>en-US</dc:language>
  <cp:lastModifiedBy>XPuser</cp:lastModifiedBy>
  <dcterms:modified xsi:type="dcterms:W3CDTF">2008-09-17T02:16:16Z</dcterms:modified>
  <cp:revision>6</cp:revision>
  <dc:subject/>
  <dc:title>제 2장 교직의 성격과            교사의 역할</dc:title>
</cp:coreProperties>
</file>